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F2C-3B74-4F41-A877-322E2655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7A8C-3CF8-4DD1-979A-2356C204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F55-AEF7-46D5-872E-7DA39DC0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B2A6-010A-4E26-8573-BC249B4B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8986-49CA-4953-B49D-9C1D7F47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57B7-C989-4A1D-BDEC-F907FC7E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0B17-C2B2-4652-A34B-0B8F2F37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72D0-197F-44C7-A4A5-2EB81157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B397-226F-483C-B23A-BCFEA3A1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2BC6-FB7D-4E53-96F2-637CFFEF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9125-40A2-4CF7-B6B1-F019000A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7D5-C3EA-48C9-97EF-4BA6E111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18DE-B785-4B2F-8FE2-1BEEFC54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E263-FD23-4D33-8707-3EF67C3E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B823-5463-48CD-B537-4510CCBE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8614-800A-4D57-B3A4-9DFE1F84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5E63-F53C-4B81-B7CE-9B42D791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CF58A-C3EF-40F3-9FF7-ABC66C80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9A726-DA60-437C-955C-A46C8B96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7DB1F-2D3D-4454-BECD-FF6767F5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3A73E-C073-4B3B-B2A1-62AC3AD8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CDF9F-7604-4F88-8F21-9690A4FF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1373-EC4A-4CFE-A305-9A674D20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B3305-E8F6-455E-95E2-A0B32702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4DA74-04BB-423C-B135-7B3E2BEE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F7FC2-9DDC-4548-94F2-F3A33826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7871B-3C35-494B-A1DA-8D4E36A5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B6A19-E9B4-412E-AACA-53D688A6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F29F0-DE52-457A-82DA-E268D4C8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D99F6-1EBD-4734-8D58-9BEFFD84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80448-528C-4DB9-92C4-38FB6BBA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2FE26-D232-4A46-B3B3-1068A521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D1792-F832-43F6-BF31-9F377ACF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B01-FCBB-4A96-9850-2AA4A154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48608-0E61-48CC-AAE7-6384FE82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419E3-1334-4968-BAF1-B5DC693C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688D5-568F-46FB-9323-0E670500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D9E2C-15D6-478E-8D3B-AD5C5EA5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6D8D8-25FF-4AB8-B2FF-6A5F976A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356E2-D8BD-43C7-B3B1-E68F6757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6B9B1-45B2-44F9-8A16-7BA6D2EA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E4DAF-563B-49CE-BC1C-D8FB2AB3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AD9BB-909B-4143-8563-3209AC4F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BEC9D-89BC-406B-BC32-B1E7A8DB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1CB1-440D-436A-B679-D8AEEDC8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DA47C-846A-43C0-B790-8CD1AFC7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DD38E-8148-4E54-8137-FEAD5E80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187D9-9D7E-4805-8BE6-3FE19492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6DCEC-458D-40BA-9651-5DB6F6C3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150D5-44DD-489D-9B9D-2FC2D0F7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5FFB0-2DF4-4D1B-B219-FF658EDB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6E208-838C-445D-A83C-374B9E75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50584-5C97-42C3-A4B9-F1292CE6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BEAEC-FBA0-4B5D-BFE5-080ACA81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4311E-DFE5-470F-AC62-5F4BC16D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F09-EC45-4220-A3A9-E2BFC578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83CB5-E003-48E1-BE7C-59F72656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78B83-49CF-4E4E-8D7E-02D4AEF4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58FB3-2626-421B-99CD-DEDEE83F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BBB30-4634-4939-B7ED-B66A76B1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BA7CA-035C-4845-9396-2B4FC4AE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BDC60-BB98-4966-A8A6-5EA93F5E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5A2B9-F0DB-4156-AFDB-9A5FBF89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25D26-EA79-4CDA-8AF1-EAD6D077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01F82-37B4-4BCF-A8E3-CC1F9AF6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8109A-B2C5-4834-B5D3-4A14E1BC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D90B-E3D9-43D3-B65D-460A6F1B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76A1F-B83F-4263-9786-C2B93E45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DD189-9189-4CA0-813D-B02E1B02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2D70F-ADEF-4150-A3AF-34E13E98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29255-AA41-45DC-A3BE-98F46763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4989C-8D25-47C9-9BEE-CD92BB87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CBAAE-1EFD-4C83-87F1-7B472700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A7BA2-BF0D-4EEF-86B3-759F1831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0EEAD-0055-4176-9300-1CC62AD5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D5740-CF1E-476F-952A-9B16D826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8190B-649A-4081-AAEB-7514AACC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9C6-5A06-45D6-9B33-59D3105C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B7902-86BB-4244-947C-242D0C75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197D4-7DB7-43DB-BF50-CB99D3E0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D191F-83BD-4DB8-B8A3-5CCCC5E1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E7815-0325-49C2-A839-E2EE292A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92B04-1176-439E-ADA0-3259A279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8BC9-6380-4F1A-B3A1-3C26137D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2418-B73B-405B-B755-10A56859F7C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C307-AEFE-4006-94EB-9836DC2DB74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9207-FF18-4F4C-9609-FFCB55D7465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DC7B-C2D1-41AB-BF3E-C2630B8CC5A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58D8-8677-4D7B-9181-5CA925ADFD1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2C3C-2F18-4B8E-BD4C-7930FCBAC70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9BD5-77BF-499F-BB40-4DA910AD154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36640" y="243828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ssessment Blueprin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mplica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fforts at remediation and enhancement can be more target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allows teachers to build more rigor into their assessment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can lead to increases in student achievement on state assessment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itewater MS Social Stud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920"/>
            <a:ext cx="7499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% Differen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m 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1  18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%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in Did Not Mee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2  67%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% decrease in Mee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3  15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3%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Exceed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m 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1  19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%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in Did Not Mee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2  71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% decrease in Mee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3  10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0%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Exceed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m 3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1  18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%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in Did Not Mee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2  67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% decrease in Mee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3  14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1%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Exceed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ferenc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tar, C. , et. al. (2004). The table of specifications: Insuring accountability in teacher made tests.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Journal of Instructional Psycholog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, 31(2),115-128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uskey, T. R. (2005, November). Mapping the road to proficiency.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Educational Leadership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, pp. 207-215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ssessment in the Standards-based Classroom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s the role of assessment in a standards-based classroom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can I insure that my assessments are aligned with standard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Role of Assess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a standards-based classroom, the role of assessment is to inform teachers and students about the student’s journey toward mastery of the standar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teachers, assessment results guide instruc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students, assessment results guide learn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ligning Assessments with Standard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eachers should begin with the end in mind by establishing what evidence of learning looks lik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ce teachers determine evidence of learning, they can design their assessments using a blueprint to insure the assessment addresses all standards and elements at the appropriate cognitive lev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ssessment Blueprin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so known as a table of specific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tool to link assessments to standar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tool to link instructional activities to standar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ds precision and clarity to teach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arifies learning goals to stud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creases content validity of teacher-developed assessm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ssessment Bluepri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ackward design – design the blueprint before developing assessments and instructional activit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ws for evaluation of alignment in existing assess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ws teachers to reflect upon the cognitive level of the standar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ists teachers in writing assessment items and tasks that tap different levels of cognitive complex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ssessment Blueprint Examples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(based on Bloom’s Taxonomy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434960" y="2133720"/>
          <a:ext cx="7499520" cy="396216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gnitive level of 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estions that align with 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gnitive level of the ques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68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P1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wl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: knowl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: Ap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43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P1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 7,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: knowl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: comprehe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: analy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P1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wl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 knowl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: knowl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P2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 4,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: knowl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: knowl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: knowl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P2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wl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: analy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: ap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usters with laye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ems that assess the same standard are clustered togeth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first items in the cluster typically address prerequisite knowledge (recall, basic comprehension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remaining items are designed to assess more rigorous knowledge (application, analysis, evaluation, synthesis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tem Analy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lows for the assessment to become more diagnosti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ows areas where students may need more assistance (Prerequisite knowledge may be there, but students cannot apply it.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dentifies those standards/elements where corrective teaching is needed or instruction needs to be redesign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4:19:21Z</dcterms:created>
  <dc:creator>turner.julie</dc:creator>
  <dc:description/>
  <dc:language>en-US</dc:language>
  <cp:lastModifiedBy>fcboe</cp:lastModifiedBy>
  <dcterms:modified xsi:type="dcterms:W3CDTF">2011-03-07T20:34:58Z</dcterms:modified>
  <cp:revision>23</cp:revision>
  <dc:subject/>
  <dc:title>Testing Blueprints</dc:title>
</cp:coreProperties>
</file>